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C773-7A9A-4758-810D-03DFB111B305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4003-D698-44CA-B19C-1E3189B25E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ACC-E998-4634-B2BF-15312BECC6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0B4-62F9-4161-A0E0-0C5424F32F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4B4-0515-4E01-B7B1-3DEE781FF9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32A-EAD4-4EFD-A1D4-1B1790A8A3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D159-2A84-45EE-905D-9A61A29071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8C2E-873A-41FB-B136-53B470CA43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503A-1BDD-4383-AF79-0BC7801521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44B-6397-46C7-B236-062C9E30FC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B6B-9B3C-48C8-ADA9-BDA0283DBD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C701-F912-454D-AF8C-AE2E20757D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CC7-A8D4-4CA3-AD58-9F7BD2DA0D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4D5-39A1-4981-A735-7EB00A6B82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386-1FA1-4547-851D-1DF8BC3173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439-4369-4260-9F81-3C4B5FCD47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805-E44C-4451-841D-4591E11B55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D88E-0D56-4500-828B-E0A88BFA38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300-CE8F-45C4-A3B2-22ABFC0EF9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66B-E703-483B-BB3D-E75B536709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6446-EE75-45B9-AB01-63F04C2FE0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380-8B59-4538-846C-27CC98A105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B8A-93A7-4CC7-8CFF-60F567C2E3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F828-F166-439B-ADF1-AE61C00BB4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284F-CBC2-4862-A522-3329C8F8CF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68D-E87D-46F7-9E6E-A08D9AB0AC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3B50-7AFF-41EC-AE70-847631EEA4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DCC-64A3-43E9-8AC6-9866ED8118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58CC-B385-4347-8738-8F9D2144E4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D3E-D807-43CC-86E9-0B63AB3781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36DF-2541-4BFE-A435-D57EDB7340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F95-572F-46CD-B813-40DE14E465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0649-002C-4D98-B006-329F9A9368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2759-77A1-48FD-AD79-8F73665EE7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9B4-64EC-4BAD-9FAA-B237E3BB4B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4D18-D0E5-4BE3-86E4-3ED1D5B6C5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0F5A-ABC5-4395-80D2-CDFB9581AF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C216-FFEE-4CBF-BCA3-6B64C52891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2A3F-DA02-45BA-B6E1-F142970224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95A4-1225-4AC7-AEBB-5BFB0DF958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CF62-0448-4933-B388-AE787D2C0E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5D19-8A3D-41E2-91AA-85E6FF088D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1756-6416-4E78-B0FA-3F1DB1C90A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ADF5-7354-4563-BA15-EC04E6FC7D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D117-4F70-4EF0-BB43-90172C00EF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652-9783-40F8-8C9C-BE9161AC95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1397-F5D5-43D7-B7A7-5C38C52C19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7A51-5EB3-4C91-BB21-7EEA9AF102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5E6-0A74-476A-A113-749CB6C05A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7C53-40B7-48F9-B748-FB6475F4DB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C19-966B-4542-8C69-5004681D08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0467-CD14-45B6-BDC2-5ADCEC8BC4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EA04-AE8C-47E2-9545-362D6822C0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EC0-9E71-4506-A8BB-254B7EBF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789-42E1-4E72-8332-07DD8DF0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88A-4396-4254-9A91-D8BA3B3D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274-AB33-4485-B368-1C0ECB6A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582-48E8-487F-8573-26045F1D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538-CE40-44EE-AEA2-664DF77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0B9-E53B-4426-9C48-0BC6368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FEC-AF56-48C8-B715-CABD4B6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ECA-18A4-47F0-8D96-FB0D721F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78B-7A8F-4036-A4A6-9F34A5D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C63-1864-471E-90E9-2BF51814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70F-343D-403F-B3A7-498F7C54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1042-4666-4ED3-9FD4-5C9EF2C10C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066F-A73C-4D40-A7CD-878D719C58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1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1E5C-5916-4ABE-8317-9D9E9AA75D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B7FC-7D29-49C1-8C28-F03D6EB08D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168-20F7-4379-8B83-B2DE8271B6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1CB-C8AA-485C-8A41-02004C4B03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7D4-C0BD-4197-AC77-9CC0938420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2267-47DA-4054-A6EA-5D21177AD2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D68-2E8A-45C3-BCAC-FE37DC3C81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221-E851-4C67-8E42-2C7F789510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5DD-399B-415D-9FCE-2ED6CC9D4F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7E5E-D2E2-448D-9A0B-E81A7F776E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3BE8-B624-483A-9A70-3AA868A6FD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EB44-45DA-48A2-9B45-4C0120BDAA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F8B2-82E0-4EB2-9075-843B315EAA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52E1-BB2F-46AA-9DD5-592657B652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60C5-CBCA-4254-93CB-21B8C07C53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DE80-158A-4D93-8AA2-5015685E81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0738-73F3-43E3-BFB6-033D987720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CDCD-E751-470D-A5B2-F30B1C924D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C25D-6246-42F1-A497-67892DD930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5B8-D8B3-4B65-9E86-199ABCDF9B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C006-95E0-442C-BC51-92C64A4BCC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85A8-4127-4642-BA82-2B0F4B9D46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952B-E741-4C85-8AC5-C7E536F320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B13F-FB34-437F-B488-C58216ED34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FEC2-2769-4737-B52F-2C7AF0C7D5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EDEA-C168-47FD-B174-1F7F085C32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8F7-0571-41F0-9042-A85666DC58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684-01AB-4C51-9D12-8946E423C4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FB2-D290-42C3-9C55-BAC7A340A3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E02-785B-4860-BB45-FAE557F867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A25-CA2F-4F60-ACE7-A569A675B2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1E0-5783-403C-A30B-5DCFA637CA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82D7-AB1C-4742-9ECD-75AE01A844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C1FC-A940-448F-8A1A-C485A7090E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8AF6-5774-4FFD-B575-6B6972BE57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940-BACA-4709-B7B1-25556A5E85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C36-B92A-40EF-ABF2-E2F52BBA0A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C94B-334D-4EEB-90D3-D1402CD944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F11-A1FF-4F31-A0B4-CAA3FE5E54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174A-7109-4708-A8ED-2FBB809831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F10B-363A-4BE3-AEAB-080DB7FCD7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BAE-B49E-4C90-BBA7-ED9FA23248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CAC9-CF69-4E8A-A59F-8E86299C0C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1B34-53C3-48C7-ABDC-7808DB9A38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74D-FCB5-4A56-B0EA-8A4CA832D9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68A3-9B78-4611-A6A4-525FB352D0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4B1E-B37A-4661-9681-6CE8F30402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35CD-1B62-426B-A52E-9765B2D609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97A9-5622-48B0-A31B-3922D5662D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03AF-AAEF-48DE-9DEB-A34BD7CA9B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1E93-D3C0-4409-BB4D-453020E4AE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36C-A4CE-4022-B6A9-29117D6806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378-6654-4BFE-85E8-F9000827E3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6AAC-E506-41E2-8DF0-EBE0772866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340-134D-42DA-8312-455ECE89BC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8F6-021C-4F28-8026-17055DFBA9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26CD-7CEA-4311-A960-1B95165A1D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B388-0E9D-4DD0-AFA6-0387C37BC6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77C9-0861-4FFC-8DC7-5F1D344F5B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5131-FC94-4029-B8EA-FE42AA3B5A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AAA6-6EA4-4054-B198-4B23E580AE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14C7-258E-4E7F-ABF8-A0DB258583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3B0F-2424-4B87-B8F0-2CD1890EC8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188-9BC4-4A5F-93DA-91628F4D58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AC58-C9E2-45D7-8DA1-59B88572B5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1-10-20T13:13:56Z</dcterms:modified>
  <cp:revision>82</cp:revision>
  <dc:subject/>
  <dc:title>Aims and Objectives</dc:title>
</cp:coreProperties>
</file>